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media/image9.gif" ContentType="image/gi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24d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1701-467C-4B43-A9D7-713BFEF9C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In this activity we are trying to demonstrate fraction equivalen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By using something students can relate to, such as pizza slices, we are demonstrating how to use fraction circle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is demonstration we have three characters, Luigi, Dino and Guido who each want to eat half a pizza.  Each pizza has a different number of pieces so whether Luigi eats three pieces, Dino 4 pieces or Guido 5 pieces, they are still eating the same amount of piz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activity we want to dispel the misunderstanding of denominators.  Denominators should be thought of as the “size of the piece” in the fr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using fraction circles we show that when adding fractions if you add both numerator and denominator you get an incorrect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ctivity is typical of EQAO questioning.  The student is given a incorrect solution and asked to explain what is wrong wi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d Retell (p. 100 – 101 – Think Literacy: Mathemat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to be determine by the prese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e who will be partner A and who will be partner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ner A speaks for one minute and tells partner A’s talk then responds to what partner A said and mentions anything of importance that partner A did not mention on the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ner A retells what partner B just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rnal Writing (p. 90-94, Think Literacy: Mathemat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writing is reflecting on feelings, attitudes, successes and challenges in journal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BCDE-95E1-437F-8B5B-2D17BC464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5BE2-F8FE-4DD6-AC13-EA46633A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46ED-87DB-4997-AB5D-E15486CF6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B256-4A7E-4941-96D3-46A7DBAF9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7923-3657-4C68-8626-7ADDAC11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2692-3E16-4024-BA77-15B5CB3A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E8F5-92F9-46C9-8AFA-279F4D8B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6339-1DF0-40D6-A731-BCE1035E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F5C1-DF98-4629-AE23-A599B156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0546-0ED7-4C8A-A905-C6147647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F84C-8F1B-402F-AB31-2E749198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DF4F-240E-4474-A68F-2CB0ABB9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ffce"/>
          </a:solidFill>
          <a:ln w="127080">
            <a:solidFill>
              <a:srgbClr val="5a3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04920" y="380880"/>
            <a:ext cx="8458200" cy="6172200"/>
          </a:xfrm>
          <a:prstGeom prst="rect">
            <a:avLst/>
          </a:prstGeom>
          <a:solidFill>
            <a:srgbClr val="ceffce"/>
          </a:solidFill>
          <a:ln w="127080">
            <a:solidFill>
              <a:srgbClr val="ffe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24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342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342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342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342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342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F19F-808A-49EF-BF95-F3FFCF55D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6781680" y="4495680"/>
            <a:ext cx="1762200" cy="169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848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24d"/>
                </a:solidFill>
                <a:latin typeface="Arial"/>
              </a:rPr>
              <a:t>Fraction Circles</a:t>
            </a: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2455920"/>
            <a:ext cx="2743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a31ff"/>
                </a:solidFill>
                <a:latin typeface="Arial"/>
              </a:rPr>
              <a:t>Building Under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a31ff"/>
                </a:solidFill>
                <a:latin typeface="Arial"/>
              </a:rPr>
              <a:t>Dispelling Misunder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2314440"/>
            <a:ext cx="4952880" cy="39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24d"/>
                </a:solidFill>
                <a:latin typeface="Arial"/>
              </a:rPr>
              <a:t>Leading Math Success</a:t>
            </a: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28640" y="190512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42ff"/>
                </a:solidFill>
                <a:latin typeface="Arial"/>
              </a:rPr>
              <a:t>A focus on deep learning of particular mathematics topics – through a variety of strategies, including working with concrete materials – leads to greater conceptual depth. (Ben-Chaim, Fey, Fitzgerald, Benedetto, &amp; Miller, 1998; Fletcher, Hope &amp; Wagner, 2001; Siemon et al., 2001</a:t>
            </a:r>
            <a:endParaRPr b="1" lang="en-US" sz="1800" spc="-1" strike="noStrike">
              <a:solidFill>
                <a:srgbClr val="6342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342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233532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24d"/>
                </a:solidFill>
                <a:latin typeface="Arial"/>
              </a:rPr>
              <a:t>Introducing Fraction Circles</a:t>
            </a: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2314440"/>
            <a:ext cx="4952880" cy="3907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19920" y="5638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7301"/>
                </a:moveTo>
                <a:lnTo>
                  <a:pt x="7788" y="7301"/>
                </a:lnTo>
                <a:lnTo>
                  <a:pt x="8171" y="7667"/>
                </a:lnTo>
                <a:lnTo>
                  <a:pt x="17379" y="7667"/>
                </a:lnTo>
                <a:lnTo>
                  <a:pt x="17936" y="8224"/>
                </a:lnTo>
                <a:lnTo>
                  <a:pt x="17936" y="8772"/>
                </a:lnTo>
                <a:lnTo>
                  <a:pt x="19782" y="8772"/>
                </a:lnTo>
                <a:lnTo>
                  <a:pt x="20147" y="8224"/>
                </a:lnTo>
                <a:lnTo>
                  <a:pt x="20887" y="8224"/>
                </a:lnTo>
                <a:lnTo>
                  <a:pt x="20887" y="13376"/>
                </a:lnTo>
                <a:lnTo>
                  <a:pt x="20147" y="13376"/>
                </a:lnTo>
                <a:lnTo>
                  <a:pt x="19782" y="12828"/>
                </a:lnTo>
                <a:lnTo>
                  <a:pt x="17936" y="12828"/>
                </a:lnTo>
                <a:lnTo>
                  <a:pt x="17936" y="14107"/>
                </a:lnTo>
                <a:lnTo>
                  <a:pt x="8354" y="14107"/>
                </a:lnTo>
                <a:lnTo>
                  <a:pt x="8354" y="9877"/>
                </a:lnTo>
                <a:lnTo>
                  <a:pt x="8171" y="9877"/>
                </a:lnTo>
                <a:lnTo>
                  <a:pt x="7788" y="10243"/>
                </a:lnTo>
                <a:lnTo>
                  <a:pt x="6874" y="10243"/>
                </a:lnTo>
                <a:close/>
              </a:path>
            </a:pathLst>
          </a:custGeom>
          <a:noFill/>
          <a:ln w="9360">
            <a:solidFill>
              <a:srgbClr val="e731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24d"/>
                </a:solidFill>
                <a:latin typeface="Arial"/>
              </a:rPr>
              <a:t>Virtual Fraction Pieces</a:t>
            </a: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http://matti.usu.edu/nlvm/nav/vlibrary.html</a:t>
            </a: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2590560" cy="2068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809880" y="2666880"/>
            <a:ext cx="259092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24d"/>
                </a:solidFill>
                <a:latin typeface="Arial"/>
              </a:rPr>
              <a:t>Developing Understanding</a:t>
            </a: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556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6342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42ff"/>
                </a:solidFill>
                <a:latin typeface="Arial"/>
              </a:rPr>
              <a:t>Each person wants to eat one half of his pizza.  How many pieces must each person eat?  Record your answer in fractional form.    </a:t>
            </a:r>
            <a:endParaRPr b="1" lang="en-US" sz="2000" spc="-1" strike="noStrike">
              <a:solidFill>
                <a:srgbClr val="6342ff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676520" y="1676520"/>
          <a:ext cx="5333760" cy="22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676520"/>
                    <a:ext cx="533376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24d"/>
                </a:solidFill>
                <a:latin typeface="Arial"/>
              </a:rPr>
              <a:t>Dispelling Misunderstanding</a:t>
            </a: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6342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42ff"/>
                </a:solidFill>
                <a:latin typeface="Arial"/>
              </a:rPr>
              <a:t>When adding fractions, Joey adds the numerators and the denominators as follows:</a:t>
            </a:r>
            <a:endParaRPr b="1" lang="en-US" sz="2000" spc="-1" strike="noStrike">
              <a:solidFill>
                <a:srgbClr val="6342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590920" y="2924280"/>
                <a:ext cx="145260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609480" y="4114800"/>
            <a:ext cx="5181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342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42ff"/>
                </a:solidFill>
                <a:latin typeface="Arial"/>
              </a:rPr>
              <a:t>How can you use fraction circles to dispel this misunderstandin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24d"/>
                </a:solidFill>
                <a:latin typeface="Arial"/>
              </a:rPr>
              <a:t>Reflection</a:t>
            </a: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342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342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342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Timed Ret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342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342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How can you use fraction circles to show the relationship among fractions, decimals, and percentag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342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342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Person A: Answer the qu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342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Person B: Retell what you just he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24d"/>
                </a:solidFill>
                <a:latin typeface="Arial"/>
              </a:rPr>
              <a:t>Next Steps</a:t>
            </a: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81080" y="18288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Explore fraction activities on the National Library of Virtual Manipulatives web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42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342ff"/>
                </a:solidFill>
                <a:latin typeface="Arial"/>
              </a:rPr>
              <a:t>http://matti.usu.edu/nlvm/nav/vlibrary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Journal Wr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Now that I’ve worked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fraction circles I feel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1828800" cy="1317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14000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24d"/>
                </a:solidFill>
                <a:latin typeface="Arial"/>
              </a:rPr>
              <a:t>Leading Math Success</a:t>
            </a: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42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6342ff"/>
                </a:solidFill>
                <a:latin typeface="Arial"/>
              </a:rPr>
              <a:t>The key to the successful use of manipulatives lies in the bridge - which must be built by the teacher - between the artifact and the underlying mathematical concepts.”</a:t>
            </a:r>
            <a:endParaRPr b="1" lang="en-US" sz="2000" spc="-1" strike="noStrike">
              <a:solidFill>
                <a:srgbClr val="6342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520" y="424800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048120" y="4267080"/>
            <a:ext cx="370512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9T01:47:04Z</dcterms:created>
  <dc:creator>Judy Dussiaume</dc:creator>
  <dc:description/>
  <dc:language>en-US</dc:language>
  <cp:lastModifiedBy>Ross Isenegger</cp:lastModifiedBy>
  <cp:lastPrinted>2005-04-21T15:52:13Z</cp:lastPrinted>
  <dcterms:modified xsi:type="dcterms:W3CDTF">2005-04-29T16:36:35Z</dcterms:modified>
  <cp:revision>31</cp:revision>
  <dc:subject/>
  <dc:title>Using Manipulatives to Build Understanding</dc:title>
</cp:coreProperties>
</file>